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46B36-4766-482A-A51F-1688E8CA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A9B21-A92C-43DE-BCA2-22F60155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790BD-02EB-4ECE-A32D-A971ED458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B318F-C532-49F7-B23F-B0B70FDF8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E569-DFE1-425C-B43F-AB2E94C1F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2ADD-8F34-49E3-9331-6B3D2635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132B-C825-4498-8BC4-5B4D142F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F808-5941-412F-8D16-0E58B43F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DF95-677D-4B84-9770-221A1C42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0E54-E899-4EA9-B636-72FA364C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596D-12D6-4C30-A2C9-F1D8684B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D5C18-73AF-4DA8-81CC-40A905EA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1A36-B674-430E-85A5-F5F11045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52DB-C894-46B9-8585-714E7D85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F45F-1871-48B0-9E90-AA00FFB3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7A9E-4E06-4750-9DA3-3BC43607E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72A9-A907-46AB-A709-6B02C647A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D2600-1304-423F-AB99-BF70F8CA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36C95-0A51-4F49-9CFA-E46CD2CA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E5557-065E-44DC-BB4F-4B73B5D9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D6964-63EC-412B-B5A0-69AF1199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0B398-F394-48AF-9391-1D0D1A12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3BE2C-808F-4130-94BC-549F3281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8353E-E1B6-40B8-BB93-5CDC8036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E5B3-2BDA-4424-9D72-E906EA4B2C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EECE-EE58-433A-94C4-000A8EE71A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ff"/>
                </a:solidFill>
                <a:latin typeface="Arial"/>
              </a:rPr>
              <a:t>Me llamo ___________ Clase 7 IL</a:t>
            </a:r>
            <a:br>
              <a:rPr sz="3600"/>
            </a:br>
            <a:r>
              <a:rPr b="0" lang="en-US" sz="3600" spc="-1" strike="noStrike">
                <a:solidFill>
                  <a:srgbClr val="6699ff"/>
                </a:solidFill>
                <a:latin typeface="Arial"/>
              </a:rPr>
              <a:t>La fecha es el 7 de junio del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Propósito 91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Adonde fuiste durante el verano?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pia y completa con el pretérito de 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alumnos ________ exitosos en el exa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yer, yo ________ la que sacó la nota mas ba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 _________ muy estud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 ___________ el que mejor nota sac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os _________ el único que no tomó el exa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l Preterito de IR/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28600" y="1600200"/>
          <a:ext cx="8534520" cy="4597560"/>
        </p:xfrm>
        <a:graphic>
          <a:graphicData uri="http://schemas.openxmlformats.org/drawingml/2006/table">
            <a:tbl>
              <a:tblPr/>
              <a:tblGrid>
                <a:gridCol w="4114800"/>
                <a:gridCol w="2286000"/>
                <a:gridCol w="21337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i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s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790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790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D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792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, ELLA, 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790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79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, ELLAS, 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ontent Placeholder 2"/>
          <p:cNvSpPr/>
          <p:nvPr/>
        </p:nvSpPr>
        <p:spPr>
          <a:xfrm>
            <a:off x="457200" y="914400"/>
            <a:ext cx="8183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ff33cc"/>
                </a:solidFill>
                <a:latin typeface="Arial"/>
              </a:rPr>
              <a:t>I-</a:t>
            </a:r>
            <a:r>
              <a:rPr b="0" lang="es-DO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i="1" lang="es-DO" sz="2800" spc="-1" strike="noStrike">
                <a:solidFill>
                  <a:srgbClr val="000000"/>
                </a:solidFill>
                <a:latin typeface="Arial"/>
              </a:rPr>
              <a:t>Copia y responde en oraciones complet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000000"/>
                </a:solidFill>
                <a:latin typeface="Arial"/>
              </a:rPr>
              <a:t>Ayer, ¿fuiste a la escue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000000"/>
                </a:solidFill>
                <a:latin typeface="Arial"/>
              </a:rPr>
              <a:t>¿Fue fácil o difícil el examen de españ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000000"/>
                </a:solidFill>
                <a:latin typeface="Arial"/>
              </a:rPr>
              <a:t>¿Cuándo fue la ultima vez que fuiste a un balneari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000000"/>
                </a:solidFill>
                <a:latin typeface="Arial"/>
              </a:rPr>
              <a:t>¿Fuiste  a esquiar con tus amig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000000"/>
                </a:solidFill>
                <a:latin typeface="Arial"/>
              </a:rPr>
              <a:t>¿Quién de tus amigos fue el más diverti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97868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8390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cc"/>
                </a:solidFill>
                <a:latin typeface="Arial"/>
              </a:rPr>
              <a:t>II-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pia y completa con el pretérito de IR o S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 a la escuela y él también 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_ al mercado y él también 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 a la playa y él también 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 al lago y él también 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 __________a la playa y ellos también 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 __________ al campo de futbol y ellos también 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 _________ a esquiar y ellos también 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28600" y="121896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33cc"/>
                </a:solidFill>
                <a:latin typeface="Arial"/>
              </a:rPr>
              <a:t>III-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Copia y re-escribe usando el </a:t>
            </a:r>
            <a:r>
              <a:rPr b="1" lang="es-ES" sz="2600" spc="-1" strike="noStrike">
                <a:solidFill>
                  <a:srgbClr val="7030a0"/>
                </a:solidFill>
                <a:latin typeface="Arial"/>
              </a:rPr>
              <a:t>P.O.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uis vio el libro en la mes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lla necesita plum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l profesor está poniendo el libro en su mochi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llos practicaron los ejercicios cuidadosam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ú no necesitas mas la computado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Yo vi al Sr. García en la calle 82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nés trae a su amiga a la fie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l profesor buscó los anteojos por dos hor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Yo llamé a María y a Teresa por teléfono ay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lla siempre está enviando correos electrónicos a sus prim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cc"/>
                </a:solidFill>
                <a:latin typeface="Arial"/>
              </a:rPr>
              <a:t>IV-</a:t>
            </a: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completa con el pretérito de 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ú _______ a que escuela primar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_______ tu hermano a la misma escue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_______ ustedes a la escuela a p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, nosotros ___________ en b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, yo no _______ así. Yo _____ a pie y él ___________ en b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9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distribu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3:10:28Z</dcterms:created>
  <dc:creator>Helen Zumaeta</dc:creator>
  <dc:description/>
  <dc:language>en-US</dc:language>
  <cp:lastModifiedBy>Helen Zumaeta</cp:lastModifiedBy>
  <dcterms:modified xsi:type="dcterms:W3CDTF">2013-06-06T17:44:18Z</dcterms:modified>
  <cp:revision>15</cp:revision>
  <dc:subject/>
  <dc:title>Conjugacion</dc:title>
</cp:coreProperties>
</file>